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курс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организационными изменен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 и школы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и чита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подаватель Высшей Школы Бизнес-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чикин Арсен Николае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можно противопоставить изменениям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«сейчас», а не «прежде»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ы управ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ы управ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ы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оязнь перемен – нич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равнению с ощущен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й никчемност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рал Эрик Шинсе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а объединенного комитета начальников штабов ВС С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мать и действовать инач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оции (род информации или ...)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Человеческий и эмоциональный факторы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жная система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ощения монст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ри кита управления изменени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Увидеть – прочувствовать-измени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оанализировать – продумать – измени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тоды изменения повед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а кур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ьные и неформальные признаки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и фазы Soft System Methodology (SSM)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лософия 6 сиг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рта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альный дух и увер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одавлена или чрезмерно акти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ие решения о начал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ажда перемен достигает критической м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ини Даниэль Дак, Монстр перемен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деры начинают разрабатывать план и механизмы обмена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должения программы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 результ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Что-то идет не так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фликты, разногласия, промахи и маленькие успех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ние перспектив, стратегия и план находят понимание в коллекти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с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верка на проч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ижение ц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ини Даниэль Д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рта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шение людям ощущения необходимости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команды реформ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ние перспектив и определение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новой концепции буду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условий для широкого участия сотрудников в преобразова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ие скорых результа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епление достигнутых успехов и углубленных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оренение изменений в корпоративной культу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8 этапов процесса изменени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он П.Котт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оценки за ку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 баллов – активное участие в обсуждении, заданы интересные вопрос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 баллов – участие в обсуждении, заданы вопрос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 баллов – внимательное прослушивание, без участия в обсуждении, вопросы не задан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осещаемости &lt; 100% , но &gt; 50% сумма баллов снижается на 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организации изменяютс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тельно ли руководители сталкиваются с проблемами новых трансформаци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одразумевается под изменения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е мнение о формулировк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Изменения - такая большая проблем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Если внешний мир меняется быстрее ва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 крах вашего бизнеса уже на горизонт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ек Вэл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 означает укороченный цикл для программ обучения, реструктуризации компаний, разработки и внедрения новых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 стимулирует переход к стилю мышления, основанному на инновациях и рис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ческие и социальные силы, вызывающие кардинальные перемены в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в технолог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экономическ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рынков в передовых стран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шение коммунистических режи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ческие и социальные силы, вызывающие кардинальные перемены в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опас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трение конкурен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астание темпов деловой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упнение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числа барь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6E0-7C55-4875-8BD4-D582535F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DA33-EA02-445E-8AD5-4B14492B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2BF-CFB1-4730-8F2E-630E6D70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A80-E83D-4EC0-BE0E-C4E3C1A0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1A6-942E-44F5-9AB1-A6AF9852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ECC8-B2F6-4BE3-BDE0-2309D8A0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B2F-00C8-43C4-B891-0A6DCDA8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929C-67E0-4B0B-A142-12F1A1AB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C4E-CFC4-4414-9476-5D2410CA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6558-5F2C-4DEF-B013-CD2B6A21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4CD-3F2C-44E9-8EA1-D7C50E13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46C-C4AD-4E23-A3EB-B6D1A73A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19EF90-ACA8-4C6F-B266-94B3B4CB2B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83808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 Unicode MS"/>
              </a:rPr>
              <a:t>Учеб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 Unicode MS"/>
              </a:rPr>
              <a:t>курс</a:t>
            </a:r>
            <a:br>
              <a:rPr sz="2700"/>
            </a:br>
            <a:br>
              <a:rPr sz="2700"/>
            </a:br>
            <a:r>
              <a:rPr b="1" lang="en-GB" sz="3500" spc="-1" strike="noStrike">
                <a:solidFill>
                  <a:srgbClr val="000000"/>
                </a:solidFill>
                <a:latin typeface="Times New Roman"/>
              </a:rPr>
              <a:t>Управление организационными изменениями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</a:rPr>
              <a:t>Лекц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Управление изменениями и школы управления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кции читае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еподаватель Высшей Школы Бизнес-Информатики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Чичикин Арсен Николаевич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571680" y="428760"/>
            <a:ext cx="8157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849240" y="172260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Что можно противопоставить изменениям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чему «сейчас», а не «прежде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785880" y="1801800"/>
            <a:ext cx="7839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Школы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571680" y="428760"/>
            <a:ext cx="8157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79280" y="1484280"/>
            <a:ext cx="8713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Использование научного анализа для определения лучших способов выполнения зада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Разделение планирования и обдумывания от самой работ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00040" y="4287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642960" y="1801800"/>
            <a:ext cx="7981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витие принципов управ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Описание функций управ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истематизация подхода к управлению всей организаци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428760" y="1571760"/>
            <a:ext cx="84294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глубление понимания сложных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правленческих проблем благодаря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работке и применению модел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витие количественных методов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нятия решений в сложных ситуаци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539640" y="692280"/>
            <a:ext cx="8085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95280" y="2017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Боязнь перемен – ничт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 сравнению с ощущени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собственной никчемност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Генерал Эрик Шинсек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Глава объединенного комитета начальников штабов ВС СШ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Думать и действовать инач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моции (род информации или ...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1154160" y="173052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Стратег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дежная система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Укрощения монст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68360" y="4046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154160" y="173052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Увидеть – прочувствовать-измени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Проанализировать – продумать – измени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8360" y="4046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Методы изменения поведения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68360" y="4762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ограмма кур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911160" y="1268280"/>
            <a:ext cx="7272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Формальные и неформальные признаки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нципы и фазы Soft System Methodology (SSM)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тратегии изменени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Философия 6 сиг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еинжиниринг бизне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теории изменени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457200" y="5867280"/>
            <a:ext cx="82296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4"/>
          <p:cNvSpPr/>
          <p:nvPr/>
        </p:nvSpPr>
        <p:spPr>
          <a:xfrm flipV="1">
            <a:off x="457200" y="1674360"/>
            <a:ext cx="1440" cy="419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 rot="16200000">
            <a:off x="-1644480" y="3549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Моральный дух и увере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886200" y="5867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57200" y="4800600"/>
            <a:ext cx="1371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 flipV="1">
            <a:off x="1828800" y="4493880"/>
            <a:ext cx="990720" cy="3078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2819520" y="4495680"/>
            <a:ext cx="761760" cy="6098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3581280" y="4113360"/>
            <a:ext cx="1143000" cy="993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724280" y="4114800"/>
            <a:ext cx="228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 flipV="1">
            <a:off x="4952880" y="3656160"/>
            <a:ext cx="533520" cy="460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5486400" y="3657600"/>
            <a:ext cx="228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 flipV="1">
            <a:off x="5715000" y="3274560"/>
            <a:ext cx="380880" cy="3841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6095880" y="3276720"/>
            <a:ext cx="3812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6477120" y="365760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6629400" y="365760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7086600" y="419112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9"/>
          <p:cNvSpPr/>
          <p:nvPr/>
        </p:nvSpPr>
        <p:spPr>
          <a:xfrm flipV="1">
            <a:off x="7238880" y="3656160"/>
            <a:ext cx="762120" cy="5364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8001000" y="2055600"/>
            <a:ext cx="609480" cy="1603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7238880" y="4191120"/>
            <a:ext cx="685800" cy="1295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3520" y="1905120"/>
            <a:ext cx="144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рганизация подавлена или чрезмерно актив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1752480" y="2971800"/>
            <a:ext cx="13114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ринятие решения о начале измен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24"/>
          <p:cNvSpPr/>
          <p:nvPr/>
        </p:nvSpPr>
        <p:spPr>
          <a:xfrm>
            <a:off x="1752480" y="396252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2666880" y="144792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Жажда перемен достигает критической масс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26"/>
          <p:cNvSpPr/>
          <p:nvPr/>
        </p:nvSpPr>
        <p:spPr>
          <a:xfrm>
            <a:off x="2971800" y="28195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27"/>
          <p:cNvSpPr/>
          <p:nvPr/>
        </p:nvSpPr>
        <p:spPr>
          <a:xfrm>
            <a:off x="3581280" y="2819520"/>
            <a:ext cx="1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685800" y="3200400"/>
            <a:ext cx="99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6260400" y="5943600"/>
            <a:ext cx="23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Джини Даниэль Дак, Монстр перемен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1600200" y="510552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Лидеры начинают разрабатывать план и механизмы обмена информаци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7620120" y="4495680"/>
            <a:ext cx="152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тказ от продолжения программы переме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7308720" y="2057400"/>
            <a:ext cx="130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олучен результ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6095880" y="31240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Что-то идет не так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5410080" y="3657600"/>
            <a:ext cx="1524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онфликты, разногласия, промахи и маленькие успех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267080" y="1905120"/>
            <a:ext cx="245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идение перспектив, стратегия и план находят понимание в коллектив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4191120" y="2971800"/>
            <a:ext cx="2590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37"/>
          <p:cNvSpPr/>
          <p:nvPr/>
        </p:nvSpPr>
        <p:spPr>
          <a:xfrm>
            <a:off x="5105520" y="2971800"/>
            <a:ext cx="14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154160" y="18018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Засто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роверка на прочнос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Достижение 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Джини Даниэль Да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68360" y="4762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теории изменени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407880" y="17305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Внушение людям ощущения необходимости перем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Создание команды реформат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Видение перспектив и определение страте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Пропаганда новой концепции будуще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Создание условий для широкого участия сотрудников в преобразован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Times New Roman"/>
              </a:rPr>
              <a:t>Получение скорых результа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996633"/>
                </a:solidFill>
                <a:latin typeface="Times New Roman"/>
              </a:rPr>
              <a:t>Закрепление достигнутых успехов и углубленных перем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Укоренение изменений в корпоративной культу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79280" y="404640"/>
            <a:ext cx="845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 этапов процесса изменений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86720" y="576900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Джон П.Кот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560520" y="4092480"/>
            <a:ext cx="8153280" cy="18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560520" y="4473720"/>
            <a:ext cx="815328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560520" y="5159520"/>
            <a:ext cx="815328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50920" y="404640"/>
            <a:ext cx="86868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Критерии оценки за кур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79520" y="1730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7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активное участие в обсуждении, заданы интересные вопрос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4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участие в обсуждении, заданы вопрос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1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внимательное прослушивание, без участия в обсуждении, вопросы не задан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 посещаемости &lt; 100% , но &gt; 50% сумма баллов снижается на 3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395280" y="47628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9528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чему организации изменяю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Действительно ли руководители сталкиваются с проблемами новых трансформаци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395280" y="549360"/>
            <a:ext cx="830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154160" y="187488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Что подразумевается под изменениям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395280" y="620640"/>
            <a:ext cx="8302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68360" y="1946160"/>
            <a:ext cx="8229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Ваше мнение о формулировке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Изменения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такая большая проблем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395280" y="620640"/>
            <a:ext cx="81583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24000" y="1641600"/>
            <a:ext cx="85341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«Если внешний мир меняется быстрее вас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то крах вашего бизнеса уже на горизонт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Джек Вэл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корость означает укороченный цикл для программ обучения, реструктуризации компаний, разработки и внедрения новых товаров и услу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корость стимулирует переход к стилю мышления, основанному на инновациях и рис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250920" y="476280"/>
            <a:ext cx="83739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кономические и социальные силы, вызывающие кардинальные перемены в организа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95280" y="2030400"/>
            <a:ext cx="8534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зменения в технология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Международная экономическая интегр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витие рынков в передовых стран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рушение коммунистических режим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395280" y="404640"/>
            <a:ext cx="83026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кономические и социальные силы, вызывающие кардинальные перемены в организа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2103480"/>
            <a:ext cx="8534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вые опас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бострение конкурен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растание темпов деловой жиз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вые перспектив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крупнение рын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окращение числа барье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uprov</dc:creator>
  <dc:description/>
  <dc:language>en-US</dc:language>
  <cp:lastModifiedBy>LEGION</cp:lastModifiedBy>
  <dcterms:modified xsi:type="dcterms:W3CDTF">2016-01-11T10:04:41Z</dcterms:modified>
  <cp:revision>6</cp:revision>
  <dc:subject/>
  <dc:title>Учебный курс Управление организационными изменениями</dc:title>
</cp:coreProperties>
</file>